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25FF-2416-4FA8-987E-8942ED79B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B2B2-6294-497F-9E1B-6BC53E81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977F-6F06-42E7-886C-A1F931931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4D52-17AE-4D83-BDFD-7AF02B12B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1EDF-D555-49F7-A97C-2A89F2BA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03CD-0AFA-421D-AC7B-78E88844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81FB-DD89-4697-899D-7A93A3FC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957C-18FC-4481-A11D-3BBCBBCB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4065-FAEA-4ECC-A806-D96C0E1B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758B-2217-4645-A519-F7798801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67E0-EA01-4BB7-A24C-0696EE69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0799-B892-43BE-AB55-CCDCE79E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65FD-7240-4FC2-8C85-1358B6FEE016}" type="datetime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115/0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EFF2-4E27-4FE0-9465-7BC49530C482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1/16) </a:t>
            </a: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System architectur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team overview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ascal Lefèv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G CTM IPM TPS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6.01.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General topics inside system architectur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Malpha coordination &amp; suppor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Ralf Oberheim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Palpha coordination &amp; suppor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Hans-Georg Kelle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Apoxi/Infineon key accoun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W: Dietrich Olf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HW: Ralf Oberheim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Brew/Qualcomm key accoun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W: Martin Kolde (starting 15.03.2006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HW: Support by Uwe Hebd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TTPCom key accoun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Gerald Stöck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OpenPlug key accoun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Ralf Kaisle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Technology cluster mapping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68360" y="825480"/>
          <a:ext cx="8207280" cy="513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825480"/>
                    <a:ext cx="8207280" cy="51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6804000" y="6021360"/>
          <a:ext cx="914400" cy="714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04000" y="602136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Minion"/>
              </a:rPr>
              <a:t>Backup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Major challenges for System architectur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Merger from HW and SW system architecture to one operational organization to focus an system issue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Build bridge between technology clusters and platform architecture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eature breakdown to architectural component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easibility support for M</a:t>
            </a:r>
            <a:r>
              <a:rPr b="0" lang="en-US" sz="32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α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Arial Unicode MS"/>
              </a:rPr>
              <a:t> proces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Arial Unicode MS"/>
              </a:rPr>
              <a:t>Platform screening and evaluation for P</a:t>
            </a:r>
            <a:r>
              <a:rPr b="0" lang="el-GR" sz="3200" spc="-1" strike="noStrike">
                <a:solidFill>
                  <a:srgbClr val="3a0e66"/>
                </a:solidFill>
                <a:latin typeface="Arial Unicode MS"/>
                <a:ea typeface="Arial Unicode MS"/>
              </a:rPr>
              <a:t>α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  <a:ea typeface="Arial Unicode MS"/>
              </a:rPr>
              <a:t> proces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Topic list for System architecture (overview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Base band chipse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Platform mapping and BSF feasibility check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Multimedia/Imaging/HW Accelerator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Security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Basic platform framework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Messaging 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Browsing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onnectivity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Audio/Speech technology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Application environmen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Java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ustomization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Factory/Service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Protocol stack termination/Telephony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95280" y="3716280"/>
            <a:ext cx="1154160" cy="1008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5084640"/>
            <a:ext cx="36036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48360" y="3789360"/>
            <a:ext cx="36036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4869000"/>
            <a:ext cx="410544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3840" y="3716280"/>
            <a:ext cx="115380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3716280"/>
            <a:ext cx="712800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3840" y="4797360"/>
            <a:ext cx="835344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System architecture area of work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981000"/>
            <a:ext cx="136692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a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oice/Video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SD/GPRS set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SSD editor/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U)SIM Appl. Toolkit 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etwork settings 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hone number edi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101080" y="5877000"/>
            <a:ext cx="57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2997360"/>
            <a:ext cx="718920" cy="57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2349360"/>
            <a:ext cx="718920" cy="57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l.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2360" y="4005360"/>
            <a:ext cx="681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SM/UM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 St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00720" y="3789360"/>
            <a:ext cx="57600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71640" y="3789360"/>
            <a:ext cx="863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T, IrDa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AN, 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92360" y="3789360"/>
            <a:ext cx="431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3789360"/>
            <a:ext cx="501840" cy="863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rastruc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r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56360" y="3789360"/>
            <a:ext cx="79200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iver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ctory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459280" y="450864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66920" y="2708280"/>
            <a:ext cx="647640" cy="86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ex, PC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2340000"/>
            <a:ext cx="6480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P Protoc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8000" y="981000"/>
            <a:ext cx="21600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8000" y="2349360"/>
            <a:ext cx="28764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86200" y="2347920"/>
            <a:ext cx="217440" cy="122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dget Lib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56360" y="981000"/>
            <a:ext cx="21600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lor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58920" y="2997360"/>
            <a:ext cx="216000" cy="56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95640" y="981000"/>
            <a:ext cx="50328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MS, MMS, Email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p Push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3068640"/>
            <a:ext cx="5032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2349360"/>
            <a:ext cx="503280" cy="6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nc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981000"/>
            <a:ext cx="50508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B, Organizer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ords, Categ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78560" y="3789360"/>
            <a:ext cx="287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ot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4836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d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40360" y="3213000"/>
            <a:ext cx="936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ice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40360" y="2347920"/>
            <a:ext cx="1223640" cy="7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35640" y="2349360"/>
            <a:ext cx="57636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349360"/>
            <a:ext cx="647640" cy="122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 JSR2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DC JSR2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84720" y="2349360"/>
            <a:ext cx="360360" cy="122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work incl. 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16720" y="2349360"/>
            <a:ext cx="503280" cy="122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or Vari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 Vari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2276640"/>
            <a:ext cx="835344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28464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48000" y="981000"/>
            <a:ext cx="21600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67280" y="981000"/>
            <a:ext cx="36036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y/Rec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35280" y="981000"/>
            <a:ext cx="36216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y/Rec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75280" y="981000"/>
            <a:ext cx="36180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C, VoIP,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88000" y="981000"/>
            <a:ext cx="21744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B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96360" y="981000"/>
            <a:ext cx="215640" cy="1152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va Ap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00720" y="981000"/>
            <a:ext cx="21564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M Radio/T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08720" y="981000"/>
            <a:ext cx="21600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m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907920"/>
            <a:ext cx="8353440" cy="129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885080" y="1989000"/>
            <a:ext cx="792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18200" y="3789360"/>
            <a:ext cx="2876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S Ker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7640" y="2349360"/>
            <a:ext cx="28764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ontent Mg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MC,Virt. Files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58920" y="2349360"/>
            <a:ext cx="216000" cy="57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981000"/>
            <a:ext cx="576000" cy="11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urity Ap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ocking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ertificat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57120" y="1268280"/>
            <a:ext cx="34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5084640"/>
            <a:ext cx="71892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se 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84720" y="4869000"/>
            <a:ext cx="432000" cy="1150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splay, Camera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eypad, 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3640" y="5084640"/>
            <a:ext cx="35856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35280" y="5084640"/>
            <a:ext cx="79236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G, 2.5G 3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58920" y="5084640"/>
            <a:ext cx="50472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84640"/>
            <a:ext cx="86544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W ac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86560" y="4869000"/>
            <a:ext cx="36036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nsor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03640" y="4869000"/>
            <a:ext cx="43200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 H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T, WLAN, 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87680" y="4869000"/>
            <a:ext cx="1443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sic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ystem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ame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08720" y="4869000"/>
            <a:ext cx="504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M-Ra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VB-H, DAB, DM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51640" y="4869000"/>
            <a:ext cx="57636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ten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i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813800" y="2351160"/>
            <a:ext cx="28728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35280" y="5084640"/>
            <a:ext cx="36036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40720" y="3789360"/>
            <a:ext cx="28728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51280" y="2349360"/>
            <a:ext cx="2160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. Frame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08360" y="3789360"/>
            <a:ext cx="71928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omize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uch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4869000"/>
            <a:ext cx="36036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95640" y="3789360"/>
            <a:ext cx="506160" cy="863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48360" y="3789360"/>
            <a:ext cx="36036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20000" y="4869000"/>
            <a:ext cx="360360" cy="1150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33440" y="549360"/>
            <a:ext cx="120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laus Zap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86200" y="2347920"/>
            <a:ext cx="217440" cy="122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dget Lib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2349360"/>
            <a:ext cx="503280" cy="649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nc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16720" y="2349360"/>
            <a:ext cx="503280" cy="122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rator Vari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 Vari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8720" y="981000"/>
            <a:ext cx="21600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m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813800" y="2351160"/>
            <a:ext cx="287280" cy="1224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2349360"/>
            <a:ext cx="216000" cy="1224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l. Frame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08000" y="2349360"/>
            <a:ext cx="287640" cy="1224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56360" y="981000"/>
            <a:ext cx="21600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lor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58920" y="2997360"/>
            <a:ext cx="216000" cy="5648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47640" y="2349360"/>
            <a:ext cx="287640" cy="1224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ontent Mg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MC,Virt. Files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58920" y="2349360"/>
            <a:ext cx="216000" cy="57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08720" y="981000"/>
            <a:ext cx="57600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urity App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ocking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ertificate 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35960" y="549360"/>
            <a:ext cx="120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etrich Ol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981000"/>
            <a:ext cx="136692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a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oice/Video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SD/GPRS set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SSD editor/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(U)SIM Appl. Toolkit 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Network settings 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hone number edi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997360"/>
            <a:ext cx="718920" cy="57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2349360"/>
            <a:ext cx="718920" cy="57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l.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95640" y="981000"/>
            <a:ext cx="50328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MS, MMS, Email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p Push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34880" y="549360"/>
            <a:ext cx="130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rald Stöck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349360"/>
            <a:ext cx="647640" cy="122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 JSR24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DC JSR24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32360" y="549360"/>
            <a:ext cx="114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ven Pan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48360" y="3214800"/>
            <a:ext cx="86364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d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40360" y="3214800"/>
            <a:ext cx="936360" cy="360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ice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40360" y="2349360"/>
            <a:ext cx="1223640" cy="781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me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35640" y="2351160"/>
            <a:ext cx="576360" cy="792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18200" y="3790800"/>
            <a:ext cx="28764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S Ker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33800" y="549360"/>
            <a:ext cx="111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lf Kais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8000" y="981000"/>
            <a:ext cx="21600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71640" y="981000"/>
            <a:ext cx="50508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B, Organizer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ords, Categ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84720" y="2349360"/>
            <a:ext cx="360360" cy="122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work incl. 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75280" y="981000"/>
            <a:ext cx="36180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C, VoIP,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981000"/>
            <a:ext cx="21744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B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34160" y="549360"/>
            <a:ext cx="165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rkhard Düm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71640" y="3790800"/>
            <a:ext cx="86364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T, IrDa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LAN, 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66920" y="2709720"/>
            <a:ext cx="64764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ex, PC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68360" y="2341440"/>
            <a:ext cx="64800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P Protoc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03640" y="4870440"/>
            <a:ext cx="432000" cy="1150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nectivity H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T, WLAN, 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34880" y="5493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Kol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56360" y="3789360"/>
            <a:ext cx="79200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iver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ctory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78560" y="3789360"/>
            <a:ext cx="28764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oot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08360" y="3789360"/>
            <a:ext cx="71928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stomize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iv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uch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33800" y="549360"/>
            <a:ext cx="140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ürgen Rie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5084640"/>
            <a:ext cx="71892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se B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35240" y="549360"/>
            <a:ext cx="177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ns-Georg Ke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35280" y="5084640"/>
            <a:ext cx="79236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G, 2.5G 3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508720" y="4869000"/>
            <a:ext cx="504720" cy="1150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M-Ra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VB-H, DAB, DM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51640" y="4869000"/>
            <a:ext cx="576360" cy="1150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ten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i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34880" y="549360"/>
            <a:ext cx="138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rhard Ze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34880" y="549360"/>
            <a:ext cx="180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land Djerme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92360" y="3789360"/>
            <a:ext cx="43164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5084640"/>
            <a:ext cx="35856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5084640"/>
            <a:ext cx="50472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86560" y="4869000"/>
            <a:ext cx="360360" cy="1150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nsor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4869000"/>
            <a:ext cx="360360" cy="1150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33800" y="549360"/>
            <a:ext cx="121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lrich Hu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3789360"/>
            <a:ext cx="57600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48000" y="981000"/>
            <a:ext cx="21600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67280" y="981000"/>
            <a:ext cx="36036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y/Rec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635280" y="981000"/>
            <a:ext cx="36216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y/Rec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00720" y="981000"/>
            <a:ext cx="215640" cy="1152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M Radio/T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68360" y="5084640"/>
            <a:ext cx="865440" cy="86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W ac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34880" y="549360"/>
            <a:ext cx="196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hael Scheitha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3068640"/>
            <a:ext cx="503280" cy="50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g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56000" y="6165720"/>
            <a:ext cx="2737080" cy="152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ntionally not in TPS 4 fo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56000" y="6381720"/>
            <a:ext cx="2737080" cy="152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issing expertise or headcount within TPS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56000" y="6597720"/>
            <a:ext cx="2737080" cy="152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pic covered by listed TPS 4 employe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740720" y="3789360"/>
            <a:ext cx="287280" cy="863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ystem architecture areas of work (text version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Dietrich Olf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Explorer 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Security App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ntent Mgr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Secur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DRM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Databas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Gerald Stöckl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Dial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Messaging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nnectivit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Tel. Serv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PS Termination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Ralf Kaisle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Multi Media Framework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Audio Policy Manag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Voice Control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dec Managemen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OS Kernel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ystem architecture areas of work (text version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Burkhard Dümle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Brows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PIM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LB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IM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IMS Framework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Martin Kold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IP Protocol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nnectivity Mgm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nnectivity (OS Layer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onnectivity H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"/>
              </a:rPr>
              <a:t>Klaus Zapp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Theme Manag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Startup/Mode Manag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Customization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Appl. Framework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Sync Servic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Device Mgm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</a:rPr>
              <a:t>Widget Lib.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ystem architecture areas of work (text version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Jürgen Riepen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Bootcor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Non Consumer Drive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Customized Driver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Accessorie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Hans-Geog Kelle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Base Band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Gerhard Zelle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2G, 2.5G, 3G RF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FM-Radio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Antenna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Roland Djermeste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GSM/UMTS PS Stack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Audio Rout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Audio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ystem architecture areas of work (text version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Sven Panne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Jav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Ulrich Hube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torag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Power Mgm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emory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torage HW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ensors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</a:rPr>
              <a:t>Michael Scheithauer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Camer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Audio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Video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DVB-H, DAB, DMB, TV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ultimedi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HW acc. Multimedia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ross cutting issu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Memory footprint </a:t>
            </a: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inion"/>
              </a:rPr>
              <a:t>Sven Pann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Code size RAM, ROM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Heap siz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emory consumption for application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erformance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alf Oberheim</a:t>
            </a:r>
            <a:r>
              <a:rPr b="0" lang="en-US" sz="2000" spc="-1" strike="noStrike" u="sng">
                <a:solidFill>
                  <a:srgbClr val="3a0e66"/>
                </a:solidFill>
                <a:uFillTx/>
                <a:latin typeface="Minion"/>
              </a:rPr>
              <a:t>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System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ulti media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Michael Scheithauer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ower consumption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Ulrich Huber (acting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Overall targets for platform provider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Definition of target corridor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Guidelines for usage concept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Exception handling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Jürgen Riepen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Accessories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oland Djermeste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Network Protocols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artin Kold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Number of implementations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Look and Feel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Klaus Zapp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Customization 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Klaus Zapp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Wingdings" charset="2"/>
              <a:buChar char=""/>
              <a:tabLst>
                <a:tab algn="l" pos="5286240"/>
                <a:tab algn="l" pos="54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MIPI standardization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upport by Uwe Hebding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Pascal Lefevre</cp:lastModifiedBy>
  <dcterms:modified xsi:type="dcterms:W3CDTF">2006-01-27T17:08:59Z</dcterms:modified>
  <cp:revision>142</cp:revision>
  <dc:subject/>
  <dc:title>PowerPoint 簡報</dc:title>
</cp:coreProperties>
</file>